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D10-2DC7-436E-A226-7CCA5062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B19-E0EA-4C44-BEE5-1764187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F69-04DA-4032-BA7C-1541BA5D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DA4-AE89-4AD9-A6F0-9BAC029D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C9E-20FD-4A9A-9074-E1A35C2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D80-2C14-43F7-BA9F-54BAD33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595-2C99-4C36-8D18-0EB12FA9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450-0E91-4C08-B34F-AE796E6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5A8-1703-41D9-B4B7-35B6B91B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80F-CE61-422D-9C22-45382F4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02A-AC07-4A4C-86B7-A8CFA3A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8C4-19CF-4A29-8A00-AA18F03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B4B-00AF-474B-9ED2-BEA59C89C06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omework from las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use and Reflect pg 168 # 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tra students in schools creates a need to build more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undraising and joining environmental cl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would not have been prepared to meet the needs of a changing population (schools, health care facil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eager to resume normal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sperous time, people could afford to have several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th control- more women attending university and starting their own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Nuclear Family- group consisting of a mother, father living with their children – Family Guy, Malcolm in the Mid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unterculture- hipp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terialism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lf-Fulfillment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 your Knowledge pg 172 # 1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were marriage rates so high after WWII?  How did this effect demograp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ere eager to resume normal lives after years of hardship and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mographic effect was a rapid rise in the # of children born immediately after the war- start of the baby b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plain how both immigration and societal values accelerated the baby b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people arriving from other countries were young.  Marriage, home and family were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al Values held marriage and family as the n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g. 151 Pause and Reflect #2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 a list of five good reasons that could be used to account for long lasting marri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vorce not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ke a list of evidence that suggests that the “youth” is out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reases in violent crime, sexual assaults, assaults, and robb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ng people having the highest crim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auses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uts to welfare and other social programs, schools kicking kid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crime is generally not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olent crime levels are not high enough to cause al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under 18 account for only 6% of all persons accused for homi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mpeting Perspectives pg 164-1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.  Articles suggest that when the economy is bad, social policy dictates that money should be cut from organizations that help young people, so the crime rates r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use and Reflect pg 168 # 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ob prospects are good because as the baby boomers approach retirement age there will be a large demand for people to take their place in the work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er need for child services (housing, e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er buying power of youth (jo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54:15Z</dcterms:created>
  <dc:creator>Jason</dc:creator>
  <dc:description/>
  <dc:language>en-US</dc:language>
  <cp:lastModifiedBy>Jason</cp:lastModifiedBy>
  <dcterms:modified xsi:type="dcterms:W3CDTF">2011-01-04T14:28:52Z</dcterms:modified>
  <cp:revision>5</cp:revision>
  <dc:subject/>
  <dc:title>Homework from last week…</dc:title>
</cp:coreProperties>
</file>